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8155-D350-4DA0-B938-F4990DC9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8B5-3937-4A0B-B302-35D430F5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D4F-8B19-49EC-9D19-15142274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9D1-F8DB-4E9B-A424-52131967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BF7-C851-452A-809F-6F1682B8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E55-4FEF-4831-B151-7EA60F08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24D-DF69-4554-AEC9-E6BC918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9F8-0519-401E-80B5-0BF25582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EEB-D460-4AED-9F89-3672A637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D4E-E0FC-4B12-A1DB-4E04EE4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FF0-6701-4158-A940-4058691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EC5-7ADD-4137-8A87-20CB70B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ECA-FA88-4C60-91A4-D451E5F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562-E512-43A1-B1BC-2A453A86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1F1-C4B2-45C6-AA8B-43E8C0E1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819520" y="49672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am bien. Yo no quiero a ir a tu casa. Nuestra amigos  eres en mi c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Yo soy aburrida. ¿puedes tú venir a mi c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3341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yo tengo la fiesta. ¿Es todos caminar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9559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373392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. Ayat no camina. Ella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ajar. Tú eres simpático p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0:59Z</dcterms:modified>
  <cp:revision>114</cp:revision>
  <dc:subject/>
  <dc:title>Profile</dc:title>
</cp:coreProperties>
</file>